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10.wmf" ContentType="image/x-wmf"/>
  <Override PartName="/ppt/media/image2.png" ContentType="image/png"/>
  <Override PartName="/ppt/media/wind.wav" ContentType="audio/x-wav"/>
  <Override PartName="/ppt/media/image16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5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8.jpeg" ContentType="image/jpeg"/>
  <Override PartName="/ppt/media/image5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2A3-3FDB-4568-B623-4FE62317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B85E-0889-48DE-B747-7CE1E65D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A43-282C-4670-88B5-7C8C231E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E49-03EB-46C0-91A4-0804D709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300D-459D-42FF-945B-CC53746D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E042-E30B-49B3-92C6-FAD462E1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D3C8-5861-41B8-B096-96956D8C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A0B0-9ABA-442E-AEB8-BDECC5DE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49FD-0624-4EB4-A399-D098AB8A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312F-97D6-4548-818A-C986F3AF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95AD-7A57-4690-8CBC-E337AFFD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052-1189-4CB6-BC42-7EAE5CB4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71B5-F08E-4DB7-92DD-E5AC6B01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0E46-F733-4772-B2B5-91C7E52B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8DDF-0F77-487B-822E-846A1695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86FE-6EA7-4605-952F-76464308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5E5B-4F4A-48A6-857D-36C612F0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41CF-E0ED-4641-8D9A-0DD6A807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813-ED3D-4530-A6E7-B4366B67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4A5A-FA38-4128-916C-5DA4B166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0B2-EA31-4EDA-BE61-CD8CBBBD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5AC0-5BED-49EF-A9D3-2BBAE161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B70-F1EA-4517-8736-2A730CBE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4318-F453-4E4F-8878-F12D5091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F7C4-F23E-4469-93DB-51DF599858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845E-F4C4-40ED-95F9-4E6F469B2B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3.gi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17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18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19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20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iem.onet.pl/wiem/00af3d.html" TargetMode="External"/><Relationship Id="rId3" Type="http://schemas.openxmlformats.org/officeDocument/2006/relationships/hyperlink" Target="http://wiem.onet.pl/wiem/00ba6b.html" TargetMode="External"/><Relationship Id="rId4" Type="http://schemas.openxmlformats.org/officeDocument/2006/relationships/image" Target="../media/image3.gif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22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6.gi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iem.onet.pl/wiem/010683.html" TargetMode="External"/><Relationship Id="rId3" Type="http://schemas.openxmlformats.org/officeDocument/2006/relationships/hyperlink" Target="http://wiem.onet.pl/wiem/01081e.html" TargetMode="External"/><Relationship Id="rId4" Type="http://schemas.openxmlformats.org/officeDocument/2006/relationships/hyperlink" Target="http://wiem.onet.pl/wiem/003a69.html" TargetMode="External"/><Relationship Id="rId5" Type="http://schemas.openxmlformats.org/officeDocument/2006/relationships/hyperlink" Target="http://wiem.onet.pl/wiem/003a69.html" TargetMode="External"/><Relationship Id="rId6" Type="http://schemas.openxmlformats.org/officeDocument/2006/relationships/image" Target="../media/image3.gif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gif"/><Relationship Id="rId4" Type="http://schemas.openxmlformats.org/officeDocument/2006/relationships/image" Target="../media/image10.wmf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3.gif"/><Relationship Id="rId4" Type="http://schemas.openxmlformats.org/officeDocument/2006/relationships/image" Target="../media/image12.wmf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gi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iem.onet.pl/wiem/0104c8.html" TargetMode="External"/><Relationship Id="rId3" Type="http://schemas.openxmlformats.org/officeDocument/2006/relationships/hyperlink" Target="http://wiem.onet.pl/wiem/0104c8.html" TargetMode="External"/><Relationship Id="rId4" Type="http://schemas.openxmlformats.org/officeDocument/2006/relationships/hyperlink" Target="http://wiem.onet.pl/wiem/0104c8.html" TargetMode="External"/><Relationship Id="rId5" Type="http://schemas.openxmlformats.org/officeDocument/2006/relationships/hyperlink" Target="http://wiem.onet.pl/wiem/0125b1.html" TargetMode="External"/><Relationship Id="rId6" Type="http://schemas.openxmlformats.org/officeDocument/2006/relationships/hyperlink" Target="http://wiem.onet.pl/wiem/0125b1.html" TargetMode="External"/><Relationship Id="rId7" Type="http://schemas.openxmlformats.org/officeDocument/2006/relationships/hyperlink" Target="http://wiem.onet.pl/wiem/009207.html" TargetMode="External"/><Relationship Id="rId8" Type="http://schemas.openxmlformats.org/officeDocument/2006/relationships/hyperlink" Target="http://wiem.onet.pl/wiem/009936.html" TargetMode="External"/><Relationship Id="rId9" Type="http://schemas.openxmlformats.org/officeDocument/2006/relationships/image" Target="../media/image3.gif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Kultura Starożytnego Rzymu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hitektu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zeźba i malarstw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eratu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24480" y="3381480"/>
            <a:ext cx="95040" cy="95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248000" y="1916280"/>
            <a:ext cx="4716720" cy="3735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260960" y="5897520"/>
            <a:ext cx="34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rkofag rzym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newsflash/>
    <p:sndAc>
      <p:stSnd>
        <p:snd r:embed="rId6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Wenus i Amor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Muzeum Watykański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843280" y="1773360"/>
            <a:ext cx="2808360" cy="446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43000" cy="115236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in" orient="vert"/>
    <p:sndAc>
      <p:stSnd>
        <p:snd r:embed="rId4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1523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l-PL" sz="4000" spc="-1" strike="noStrike">
                <a:solidFill>
                  <a:srgbClr val="b7e7ff"/>
                </a:solidFill>
                <a:latin typeface="Arial"/>
              </a:rPr>
              <a:t>Rzeźba, malarstwo i rzemiosło artystyczne</a:t>
            </a:r>
            <a:br>
              <a:rPr sz="4000"/>
            </a:br>
            <a:r>
              <a:rPr b="1" lang="pl-PL" sz="4000" spc="-1" strike="noStrike">
                <a:solidFill>
                  <a:srgbClr val="b7e7ff"/>
                </a:solidFill>
                <a:latin typeface="Arial"/>
              </a:rPr>
              <a:t>w starożytnym Rzymi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6000">
    <p:split dir="in" orient="vert"/>
    <p:sndAc>
      <p:stSnd>
        <p:snd r:embed="rId3" name="wind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Juliusz Ceza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1143000" cy="1152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124000" y="1413000"/>
            <a:ext cx="5256360" cy="49687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in" orient="vert"/>
    <p:sndAc>
      <p:stSnd>
        <p:snd r:embed="rId4" name="wind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ktawian Augus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700360" y="1413000"/>
            <a:ext cx="3384360" cy="51102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in" orient="vert"/>
    <p:sndAc>
      <p:stSnd>
        <p:snd r:embed="rId4" name="wind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Klaudiusz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556000" y="1341360"/>
            <a:ext cx="3456000" cy="51120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in" orient="vert"/>
    <p:sndAc>
      <p:stSnd>
        <p:snd r:embed="rId4" name="wind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b7e7ff"/>
                </a:solidFill>
                <a:latin typeface="Arial"/>
              </a:rPr>
              <a:t>Agrypina Starsz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987640" y="1700280"/>
            <a:ext cx="3168720" cy="47530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in" orient="vert"/>
    <p:sndAc>
      <p:stSnd>
        <p:snd r:embed="rId4" name="wind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pl-PL" sz="3200" spc="-1" strike="noStrike">
                <a:solidFill>
                  <a:srgbClr val="b7e7ff"/>
                </a:solidFill>
                <a:latin typeface="Arial"/>
              </a:rPr>
              <a:t>Malarstwo Pompejańskie</a:t>
            </a:r>
            <a:br>
              <a:rPr sz="3200"/>
            </a:br>
            <a:r>
              <a:rPr b="0" lang="pl-PL" sz="3200" spc="-1" strike="noStrike">
                <a:solidFill>
                  <a:srgbClr val="b7e7ff"/>
                </a:solidFill>
                <a:latin typeface="Arial"/>
              </a:rPr>
              <a:t>W malarstwie panował styl egiptyzujący, a od połowy I w. n.e. - iluzjonistyczny. Mozaika rozwijała się dwutorowo: powstawały czarno-białe kompozycje w stylu italskim i kolorowe w stylu hellenistyczno-wschodnim. Rzemiosło artystyczne obejmowało ceramikę, gliptykę, jubilerstwo, szklarstwo i sztukę menniczą (srebrne naczynia z Boscoreale, szkła millefiori, wazy murreńskie)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1523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split dir="in" orient="vert"/>
    <p:sndAc>
      <p:stSnd>
        <p:snd r:embed="rId3" name="wind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b7e7ff"/>
                </a:solidFill>
                <a:latin typeface="Arial"/>
              </a:rPr>
              <a:t>Pompeje, malarstwo pompejańskie z willi Wettiuszów, I w.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900000" y="2637000"/>
            <a:ext cx="7417080" cy="4032000"/>
          </a:xfrm>
          <a:prstGeom prst="rect">
            <a:avLst/>
          </a:prstGeom>
          <a:ln w="0">
            <a:noFill/>
          </a:ln>
        </p:spPr>
      </p:pic>
    </p:spTree>
  </p:cSld>
  <p:transition advTm="15000">
    <p:split dir="in" orient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l-PL" sz="2800" spc="-1" strike="noStrike">
                <a:solidFill>
                  <a:srgbClr val="b7e7ff"/>
                </a:solidFill>
                <a:latin typeface="Arial"/>
              </a:rPr>
              <a:t>Literatura starożytnego Rzymu</a:t>
            </a:r>
            <a:br>
              <a:rPr sz="4000"/>
            </a:br>
            <a:br>
              <a:rPr sz="4000"/>
            </a:br>
            <a:r>
              <a:rPr b="1" lang="pl-PL" sz="2800" spc="-1" strike="noStrike">
                <a:solidFill>
                  <a:srgbClr val="b7e7ff"/>
                </a:solidFill>
                <a:latin typeface="Arial"/>
              </a:rPr>
              <a:t>Wergiliusz, Publius Vergilius Maro</a:t>
            </a:r>
            <a:r>
              <a:rPr b="0" lang="pl-PL" sz="2800" spc="-1" strike="noStrike">
                <a:solidFill>
                  <a:srgbClr val="b7e7ff"/>
                </a:solidFill>
                <a:latin typeface="Arial"/>
              </a:rPr>
              <a:t> (70-19 p.n.e.), poeta, największy epik rzymski. Pochodził z okolic obecnej Mantui, gdy skonfiskowano na rzecz weteranów </a:t>
            </a:r>
            <a:r>
              <a:rPr b="0" lang="pl-PL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Oktawiana Augusta</a:t>
            </a:r>
            <a:r>
              <a:rPr b="0" lang="pl-PL" sz="2800" spc="-1" strike="noStrike">
                <a:solidFill>
                  <a:srgbClr val="b7e7ff"/>
                </a:solidFill>
                <a:latin typeface="Arial"/>
              </a:rPr>
              <a:t> i Antoniusza majątek ojca Wergiliusza (ok. 40 p.n.e.), poeta osiadł w Rzymie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b7e7ff"/>
                </a:solidFill>
                <a:latin typeface="Arial"/>
              </a:rPr>
              <a:t>Dzieła Wergiliusza:</a:t>
            </a:r>
            <a:br>
              <a:rPr sz="2800"/>
            </a:br>
            <a:r>
              <a:rPr b="0" lang="pl-PL" sz="2800" spc="-1" strike="noStrike">
                <a:solidFill>
                  <a:srgbClr val="b7e7ff"/>
                </a:solidFill>
                <a:latin typeface="Arial"/>
              </a:rPr>
              <a:t>Bukoliki,</a:t>
            </a:r>
            <a:br>
              <a:rPr sz="2800"/>
            </a:br>
            <a:r>
              <a:rPr b="0" lang="pl-PL" sz="2800" spc="-1" strike="noStrike">
                <a:solidFill>
                  <a:srgbClr val="b7e7ff"/>
                </a:solidFill>
                <a:latin typeface="Arial"/>
              </a:rPr>
              <a:t>Georgiki</a:t>
            </a:r>
            <a:br>
              <a:rPr sz="2800"/>
            </a:br>
            <a:r>
              <a:rPr b="0" lang="pl-PL" sz="2800" spc="-1" strike="noStrike">
                <a:solidFill>
                  <a:srgbClr val="b7e7ff"/>
                </a:solidFill>
                <a:latin typeface="Arial"/>
              </a:rPr>
              <a:t>Ostatnie dzieło Wergiliusza </a:t>
            </a:r>
            <a:r>
              <a:rPr b="0" lang="pl-PL" sz="2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Eneida</a:t>
            </a:r>
            <a:r>
              <a:rPr b="0" lang="pl-PL" sz="2800" spc="-1" strike="noStrike">
                <a:solidFill>
                  <a:srgbClr val="b7e7ff"/>
                </a:solidFill>
                <a:latin typeface="Arial"/>
              </a:rPr>
              <a:t> w 12 księgach</a:t>
            </a:r>
            <a:r>
              <a:rPr b="0" lang="pl-PL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143000" cy="1152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plit dir="in" orient="vert"/>
    <p:sndAc>
      <p:stSnd>
        <p:snd r:embed="rId5" name="wind.wav"/>
      </p:stSnd>
    </p:sndAc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Wergiliusz, mozaika rzymska III w.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763640" y="1844640"/>
            <a:ext cx="5419800" cy="4680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plit dir="in" orient="vert"/>
    <p:sndAc>
      <p:stSnd>
        <p:snd r:embed="rId4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Kultura starożytnego Rzymu, to termin określający twórczość artystyczną w granicach całego imperium rzymskiego (Italia i prowincje) w okresie od połowy VI w. p.n.e. do V w. n.e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924360" y="5229360"/>
            <a:ext cx="1247760" cy="119988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split dir="in" orient="vert"/>
    <p:sndAc>
      <p:stSnd>
        <p:snd r:embed="rId4" name="wind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7e7ff"/>
                </a:solidFill>
                <a:latin typeface="Arial"/>
              </a:rPr>
              <a:t>Opracowanie </a:t>
            </a:r>
            <a:br>
              <a:rPr sz="4000"/>
            </a:br>
            <a:r>
              <a:rPr b="0" lang="pl-PL" sz="4000" spc="-1" strike="noStrike">
                <a:solidFill>
                  <a:srgbClr val="b7e7ff"/>
                </a:solidFill>
                <a:latin typeface="Arial"/>
              </a:rPr>
              <a:t>Dorota Witoszyńsk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000680" y="3311640"/>
            <a:ext cx="1143000" cy="115236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split dir="in" orient="vert"/>
    <p:sndAc>
      <p:stSnd>
        <p:snd r:embed="rId3" name="wind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365 -0.18219 C -0.10365 -0.18196 -0.21267 -0.02034 -0.21163 -0.0215 C -0.21059 -0.02266 -0.10365 -0.18219 -0.10365 -0.18196 Z">
                                      <p:cBhvr>
                                        <p:cTn id="235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65 -0.06104 C 0.07465 -0.06104 0.32309 -0.03006 0.32222 -0.02936 C 0.32135 -0.02867 0.07465 -0.06104 0.07465 -0.06104 Z">
                                      <p:cBhvr>
                                        <p:cTn id="25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Efez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588000" y="692280"/>
            <a:ext cx="1839960" cy="1860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1125000"/>
            <a:ext cx="6400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Ruiny Biblioteki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Cels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95280" y="2492280"/>
            <a:ext cx="8137440" cy="39610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trips dir="ru"/>
    <p:sndAc>
      <p:stSnd>
        <p:snd r:embed="rId5" name="wind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chitektura Rzymu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d IV w. p.n.e. znane były cyrki rzymskie (Circus Maximus w Rzymie), które w czasach cesarstwa osiągnęły monumentalne rozmiary (połączenie hipodromu z teatrem). Teatry rzymskie powstawały na przełomie I w. p.n.e. i I w. n.e. Amfiteatry (np. </a:t>
            </a:r>
            <a:r>
              <a:rPr b="0" lang="pl-PL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Koloseu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) były najpóźniejszą formą takich budowli. </a:t>
            </a:r>
            <a:r>
              <a:rPr b="0" lang="pl-PL" sz="2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Łuki triumfalne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i monumentalne kolumny (np. łuk Tytusa, </a:t>
            </a:r>
            <a:r>
              <a:rPr b="0" lang="pl-PL" sz="28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kolumna </a:t>
            </a:r>
            <a:r>
              <a:rPr b="0" lang="pl-PL" sz="28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Trajana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) zaliczyć należy do form istniejących na pograniczy architektury i rzeźb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0" y="260280"/>
            <a:ext cx="1143000" cy="11527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strips dir="ld"/>
    <p:sndAc>
      <p:stSnd>
        <p:snd r:embed="rId7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Łuk Hadria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3816360" cy="403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211640" y="4221000"/>
            <a:ext cx="803160" cy="16192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blinds dir="horz"/>
    <p:sndAc>
      <p:stSnd>
        <p:snd r:embed="rId5" name="wind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b7e7ff"/>
                </a:solidFill>
                <a:latin typeface="Arial"/>
              </a:rPr>
              <a:t>Łuk Konstanty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835280" y="1989000"/>
            <a:ext cx="5233680" cy="4032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588000" y="2133720"/>
            <a:ext cx="1116000" cy="102384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in" orient="horz"/>
    <p:sndAc>
      <p:stSnd>
        <p:snd r:embed="rId5" name="wind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zymskie Foru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7058160" cy="4753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1143000" cy="11527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in" orient="vert"/>
    <p:sndAc>
      <p:stSnd>
        <p:snd r:embed="rId4" name="wind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b7e7ff"/>
                </a:solidFill>
                <a:latin typeface="Arial"/>
              </a:rPr>
              <a:t>Teatr Rzymski w Aspend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8435880" cy="489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148360" y="4076640"/>
            <a:ext cx="371520" cy="4986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1"/>
    <p:sndAc>
      <p:stSnd>
        <p:snd r:embed="rId5" name="wind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3200" spc="-1" strike="noStrike">
                <a:solidFill>
                  <a:srgbClr val="b7e7ff"/>
                </a:solidFill>
                <a:latin typeface="Arial"/>
              </a:rPr>
              <a:t>Oddziaływanie sztuki rzymskiej zaznaczyło się w </a:t>
            </a:r>
            <a:r>
              <a:rPr b="0" lang="pl-PL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ztuce</a:t>
            </a:r>
            <a:r>
              <a:rPr b="0" lang="pl-PL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 </a:t>
            </a:r>
            <a:r>
              <a:rPr b="0" lang="pl-PL" sz="32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Gandhary</a:t>
            </a:r>
            <a:r>
              <a:rPr b="0" lang="pl-PL" sz="3200" spc="-1" strike="noStrike">
                <a:solidFill>
                  <a:srgbClr val="b7e7ff"/>
                </a:solidFill>
                <a:latin typeface="Arial"/>
              </a:rPr>
              <a:t> czy też w </a:t>
            </a:r>
            <a:r>
              <a:rPr b="0" lang="pl-PL" sz="32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sztuce</a:t>
            </a:r>
            <a:r>
              <a:rPr b="0" lang="pl-PL" sz="32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 islamu</a:t>
            </a:r>
            <a:r>
              <a:rPr b="0" lang="pl-PL" sz="3200" spc="-1" strike="noStrike">
                <a:solidFill>
                  <a:srgbClr val="b7e7ff"/>
                </a:solidFill>
                <a:latin typeface="Arial"/>
              </a:rPr>
              <a:t>. Równocześnie sztuka rzymska wykorzystywała wszelkie osiągnięcia artystyczne cywilizacji Morza Śródziemnego, jak też kultur Europy.</a:t>
            </a:r>
            <a:r>
              <a:rPr b="0" lang="pl-PL" sz="32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_x000b_Eklektyzm</a:t>
            </a:r>
            <a:r>
              <a:rPr b="0" lang="pl-PL" sz="3200" spc="-1" strike="noStrike">
                <a:solidFill>
                  <a:srgbClr val="b7e7ff"/>
                </a:solidFill>
                <a:latin typeface="Arial"/>
              </a:rPr>
              <a:t> i </a:t>
            </a:r>
            <a:r>
              <a:rPr b="0" lang="pl-PL" sz="32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utylitaryzm</a:t>
            </a:r>
            <a:r>
              <a:rPr b="0" lang="pl-PL" sz="3200" spc="-1" strike="noStrike">
                <a:solidFill>
                  <a:srgbClr val="b7e7ff"/>
                </a:solidFill>
                <a:latin typeface="Arial"/>
              </a:rPr>
              <a:t> sztuki rzymskiej przyczynił się do rozpowszechnienia jej daleko poza granicami imperium rzymskiego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143000" cy="1152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  <p:sndAc>
      <p:stSnd>
        <p:snd r:embed="rId10" name="wind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8:44:19Z</dcterms:created>
  <dc:creator>Administrator</dc:creator>
  <dc:description/>
  <dc:language>en-US</dc:language>
  <cp:lastModifiedBy>Administrator</cp:lastModifiedBy>
  <dcterms:modified xsi:type="dcterms:W3CDTF">2003-11-14T11:18:04Z</dcterms:modified>
  <cp:revision>10</cp:revision>
  <dc:subject/>
  <dc:title>Najpiękniejsze Góry</dc:title>
</cp:coreProperties>
</file>